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0.png" ContentType="image/png"/>
  <Override PartName="/ppt/media/image41.png" ContentType="image/png"/>
  <Override PartName="/ppt/media/image43.wmf" ContentType="image/x-wmf"/>
  <Override PartName="/ppt/media/image33.png" ContentType="image/png"/>
  <Override PartName="/ppt/media/image44.wmf" ContentType="image/x-wmf"/>
  <Override PartName="/ppt/media/image45.png" ContentType="image/png"/>
  <Override PartName="/ppt/media/image34.wmf" ContentType="image/x-wmf"/>
  <Override PartName="/ppt/media/image49.png" ContentType="image/png"/>
  <Override PartName="/ppt/media/image46.wmf" ContentType="image/x-wmf"/>
  <Override PartName="/ppt/media/image26.png" ContentType="image/png"/>
  <Override PartName="/ppt/media/image48.png" ContentType="image/png"/>
  <Override PartName="/ppt/media/image53.wmf" ContentType="image/x-wmf"/>
  <Override PartName="/ppt/media/image13.png" ContentType="image/png"/>
  <Override PartName="/ppt/media/image11.wmf" ContentType="image/x-wmf"/>
  <Override PartName="/ppt/media/image50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52.png" ContentType="image/png"/>
  <Override PartName="/ppt/media/image42.wmf" ContentType="image/x-wmf"/>
  <Override PartName="/ppt/media/image39.png" ContentType="image/png"/>
  <Override PartName="/ppt/media/image9.png" ContentType="image/png"/>
  <Override PartName="/ppt/media/image51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B054-07E8-4E17-BFF4-5442E26D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9E9-4091-4C89-8F93-06211CF1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0C8-A6AC-43CE-8F44-6CDA22B5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3A6-6037-4538-A28C-7DEBD4EF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65B5-6F08-4801-9A5C-779ABB3F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92F0-158A-4D80-9B14-D9E5BFAF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E788-229A-4182-A60B-CC1EDC82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28D6-5433-4468-99E5-632B4469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35A9-BD7E-4889-A302-D2D2C789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2D25-392A-4ACF-83F7-C822D030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24F9-5944-4556-88DC-712CB771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CEF-F48D-4C14-B79F-38C4CB07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2089-4E03-4053-928E-D7BB83FE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AC74-CD72-4354-94FF-AB89F54B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6769-93C6-469D-A24B-A943FFEC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98AE-5998-482C-A99F-1DF62A7B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E025-F329-490F-95C4-9C200920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23B-B794-4745-9E6E-238CB83C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2FB-70F1-4395-A5A0-F8A58971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FF6-ED6A-4623-B7FB-6F238B9F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B74-5513-4C4C-B72C-BFCAC6AC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3B3-1673-4CAE-BB19-C0CBFE67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9D3-2BF5-41EC-88F8-299598D9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8C4-DCA5-4291-A0B4-EC322AF8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44600" y="6276960"/>
            <a:ext cx="491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95120" y="6286680"/>
            <a:ext cx="125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48BF-AF56-46EC-B6A0-45A15B907633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5120" y="6286680"/>
            <a:ext cx="61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B8F1-A554-4733-AEB3-54C43C17A88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850680"/>
            <a:ext cx="7678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DB55-7DA2-473E-8AB2-82EC7DFF75EC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9BC4-7580-45B8-954F-B8F9605234E0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760" y="66438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0800" y="1195920"/>
            <a:ext cx="8615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Verdana"/>
              </a:rPr>
              <a:t>Probabilistic Robotics</a:t>
            </a:r>
            <a:endParaRPr b="1" lang="en-US" sz="4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952560" y="4411800"/>
            <a:ext cx="73803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Probabilistic Motio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Odometry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00280" y="2463840"/>
            <a:ext cx="4546440" cy="2184480"/>
            <a:chOff x="800280" y="2463840"/>
            <a:chExt cx="4546440" cy="2184480"/>
          </a:xfrm>
        </p:grpSpPr>
        <p:sp>
          <p:nvSpPr>
            <p:cNvPr id="142" name=""/>
            <p:cNvSpPr/>
            <p:nvPr/>
          </p:nvSpPr>
          <p:spPr>
            <a:xfrm>
              <a:off x="800280" y="2463840"/>
              <a:ext cx="4546440" cy="2184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1027080" y="2523960"/>
                  <a:ext cx="393480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ans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(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'</m:t>
                          </m:r>
                          <m:r>
                            <m:t xml:space="preserve">−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  <m:r>
                            <m:t xml:space="preserve">'</m:t>
                          </m:r>
                          <m:r>
                            <m:t xml:space="preserve">−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1027080" y="3228840"/>
                  <a:ext cx="41443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ot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tan2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−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−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−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1027080" y="3889440"/>
                  <a:ext cx="2702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ot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−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−</m:t>
                      </m:r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ot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"/>
          <p:cNvSpPr/>
          <p:nvPr/>
        </p:nvSpPr>
        <p:spPr>
          <a:xfrm>
            <a:off x="466560" y="1260360"/>
            <a:ext cx="749952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bot moves from           to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dometry information               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747960" y="1241280"/>
                <a:ext cx="10638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211720" y="1241280"/>
                <a:ext cx="126216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',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',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e/>
                      <m:e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316400" y="1714680"/>
                <a:ext cx="28591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an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2108160" y="3683160"/>
            <a:ext cx="6718320" cy="2298600"/>
            <a:chOff x="2108160" y="3683160"/>
            <a:chExt cx="6718320" cy="2298600"/>
          </a:xfrm>
        </p:grpSpPr>
        <p:grpSp>
          <p:nvGrpSpPr>
            <p:cNvPr id="151" name=""/>
            <p:cNvGrpSpPr/>
            <p:nvPr/>
          </p:nvGrpSpPr>
          <p:grpSpPr>
            <a:xfrm>
              <a:off x="2108160" y="3683160"/>
              <a:ext cx="6718320" cy="2298600"/>
              <a:chOff x="2108160" y="3683160"/>
              <a:chExt cx="6718320" cy="2298600"/>
            </a:xfrm>
          </p:grpSpPr>
          <p:sp>
            <p:nvSpPr>
              <p:cNvPr id="152" name=""/>
              <p:cNvSpPr/>
              <p:nvPr/>
            </p:nvSpPr>
            <p:spPr>
              <a:xfrm flipV="1">
                <a:off x="7315200" y="3683160"/>
                <a:ext cx="851040" cy="97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705040" y="5486400"/>
                <a:ext cx="14731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08160" y="4940280"/>
                <a:ext cx="1079640" cy="1041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66880" y="5460840"/>
                <a:ext cx="507960" cy="14004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30920" y="4152960"/>
                <a:ext cx="1079640" cy="1041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7289640" y="4292640"/>
                <a:ext cx="343080" cy="38088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2692440" y="4419720"/>
                <a:ext cx="6134040" cy="104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9" name=""/>
                  <p:cNvSpPr txBox="1"/>
                  <p:nvPr/>
                </p:nvSpPr>
                <p:spPr>
                  <a:xfrm>
                    <a:off x="5073480" y="4971960"/>
                    <a:ext cx="750960" cy="54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an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3467160" y="5226120"/>
                    <a:ext cx="660240" cy="53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t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7859880" y="3968640"/>
                    <a:ext cx="690480" cy="54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t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2198520" y="5140440"/>
                  <a:ext cx="644760" cy="3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⟨"/>
                          <m:endChr m:val="⟩"/>
                        </m:dPr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,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  <m:r>
                            <m:t xml:space="preserve">,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6926400" y="4734000"/>
                  <a:ext cx="788760" cy="3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⟨"/>
                          <m:endChr m:val="⟩"/>
                        </m:dPr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rPr>
                              <m:lit/>
                              <m:nor/>
                            </m:rPr>
                            <m:t xml:space="preserve">',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', {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e/>
                        <m:e>
                          <m:r>
                            <m:t xml:space="preserve">'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D67-D1C4-4055-B45A-4FC40A8DF6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The atan2 Func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466560" y="1260360"/>
            <a:ext cx="804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ds the inverse tangent and correctly copes with the signs of x and 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8080" y="2781360"/>
            <a:ext cx="8026560" cy="130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81A8-9D16-4A1D-BA57-F7D94F34F3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Noise Model for Odomet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easured motion is given by the true motion corrupted with nois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84120" y="5842080"/>
            <a:ext cx="6880320" cy="404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82520" y="2819520"/>
            <a:ext cx="6915240" cy="227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13E-83A7-4483-B9F5-03EAADBD49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5940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Typical Distributions for Probabilistic Motion Model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29280" y="2347920"/>
            <a:ext cx="3672000" cy="2355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58800" y="2340000"/>
            <a:ext cx="3614760" cy="237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168560" y="5153040"/>
                <a:ext cx="25970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472000" y="4948200"/>
                <a:ext cx="29847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|</m:t>
                              </m:r>
                              <m:r>
                                <m:t xml:space="preserve">x</m:t>
                              </m:r>
                              <m:r>
                                <m:t xml:space="preserve">|</m:t>
                              </m:r>
                              <m:r>
                                <m:t xml:space="preserve">&gt;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6</m:t>
                                  </m:r>
                                  <m:s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mr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6</m:t>
                                      </m:r>
                                      <m:s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</m:rad>
                                  <m:r>
                                    <m:t xml:space="preserve">−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|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  <m:s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963000" y="1554120"/>
            <a:ext cx="3004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6720" y="1554120"/>
            <a:ext cx="3414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angula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890-1BB6-4A59-85B9-E6670B1FA2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49160" y="1247760"/>
            <a:ext cx="6755040" cy="5318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5940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alculating the Posterior 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Given x, x’, and u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180040" y="2426760"/>
            <a:ext cx="3572280" cy="546480"/>
            <a:chOff x="5180040" y="2426760"/>
            <a:chExt cx="3572280" cy="546480"/>
          </a:xfrm>
        </p:grpSpPr>
        <p:sp>
          <p:nvSpPr>
            <p:cNvPr id="181" name=""/>
            <p:cNvSpPr/>
            <p:nvPr/>
          </p:nvSpPr>
          <p:spPr>
            <a:xfrm>
              <a:off x="6198840" y="2482560"/>
              <a:ext cx="255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dometry values (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30800" y="2706480"/>
              <a:ext cx="876240" cy="26676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5180040" y="2701800"/>
              <a:ext cx="922320" cy="172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5218200" y="2426760"/>
              <a:ext cx="884160" cy="2682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132520" y="3750840"/>
            <a:ext cx="3810960" cy="546480"/>
            <a:chOff x="5132520" y="3750840"/>
            <a:chExt cx="3810960" cy="546480"/>
          </a:xfrm>
        </p:grpSpPr>
        <p:sp>
          <p:nvSpPr>
            <p:cNvPr id="186" name=""/>
            <p:cNvSpPr/>
            <p:nvPr/>
          </p:nvSpPr>
          <p:spPr>
            <a:xfrm>
              <a:off x="5915880" y="3806640"/>
              <a:ext cx="302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values of interest (x,x’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183280" y="4030560"/>
              <a:ext cx="876240" cy="26676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132520" y="4025880"/>
              <a:ext cx="922320" cy="172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5170680" y="3750840"/>
              <a:ext cx="884160" cy="2682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EBD-4D9C-4895-ABC2-47AB1F447E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9792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alculating the Probability (zero-centered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1280" y="158544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normal dis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triangular dis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1068480" y="2335320"/>
            <a:ext cx="670860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Algorithm </a:t>
            </a: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prob_normal_distribu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retur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55520" y="4989600"/>
            <a:ext cx="749628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Algorithm </a:t>
            </a: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prob_triangular_distribu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retur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836800" y="3019320"/>
            <a:ext cx="2828880" cy="768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838600" y="5681520"/>
            <a:ext cx="2914560" cy="75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5D0-D645-403C-AC2E-503D7BC4B2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Applic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ed application of the sensor model for short movem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ical banana-shaped distributions obtained for 2d-projection of 3d posteri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557360" y="4487760"/>
            <a:ext cx="2243160" cy="2332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469160" y="524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62400" y="5557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93480" y="351324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|u,x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45560" y="582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35960" y="5241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2120" y="4116240"/>
            <a:ext cx="774720" cy="9781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48040" y="4091040"/>
            <a:ext cx="2222640" cy="129528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CDB-CD84-4D6E-A5DF-5063B72D1E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160" y="264960"/>
            <a:ext cx="9034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Sample-based Density Representation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35040" y="1357200"/>
            <a:ext cx="7861320" cy="479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E2D8-4CB5-43C6-9177-EEAE0DCF8D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160" y="264960"/>
            <a:ext cx="9034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Sample-based Density Representation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44400" y="1359000"/>
            <a:ext cx="7844040" cy="478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92E-5A8F-40D0-AE6A-1DE7CBDC2A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9792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ow to Sample from Normal or Triangular Distributions?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158544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ing from a normal dis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ing from a triangular dis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068480" y="2335320"/>
            <a:ext cx="6708600" cy="1560240"/>
            <a:chOff x="1068480" y="2335320"/>
            <a:chExt cx="6708600" cy="1560240"/>
          </a:xfrm>
        </p:grpSpPr>
        <p:sp>
          <p:nvSpPr>
            <p:cNvPr id="214" name=""/>
            <p:cNvSpPr/>
            <p:nvPr/>
          </p:nvSpPr>
          <p:spPr>
            <a:xfrm>
              <a:off x="1068480" y="2335320"/>
              <a:ext cx="6708600" cy="15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Algorithm </a:t>
              </a:r>
              <a:r>
                <a:rPr b="1" lang="en-US" sz="2000" spc="-1" strike="noStrike">
                  <a:solidFill>
                    <a:srgbClr val="0033cc"/>
                  </a:solidFill>
                  <a:latin typeface="Verdana"/>
                </a:rPr>
                <a:t>sample_normal_distribu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)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return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2882880" y="2997360"/>
              <a:ext cx="2260800" cy="80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1055520" y="4989600"/>
            <a:ext cx="749628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Algorithm </a:t>
            </a: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sample_triangular_distribu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retur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778120" y="5699160"/>
            <a:ext cx="4222800" cy="66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EC5-9E0C-4B48-9E50-7B186A9FCD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Robot Mo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734000" y="2598840"/>
            <a:ext cx="4052880" cy="3522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5640" y="3381480"/>
            <a:ext cx="3670560" cy="2651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280" y="1306440"/>
            <a:ext cx="841032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bot motion is inherently uncer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we model this uncertain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3733-D5F6-4B6B-8A4C-68D546E3EA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5388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Normally Distributed Sampl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4112280" y="6013440"/>
            <a:ext cx="15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6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54280" y="1461960"/>
            <a:ext cx="585000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0AB-F292-41C6-B23E-EA63D4CDED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30312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For Triangular Distribu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63560" y="1119240"/>
            <a:ext cx="3071880" cy="2709720"/>
            <a:chOff x="763560" y="1119240"/>
            <a:chExt cx="3071880" cy="27097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763560" y="1119240"/>
              <a:ext cx="307188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496160" y="3460680"/>
              <a:ext cx="158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Verdana"/>
                </a:rPr>
                <a:t>3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106960" y="1157400"/>
            <a:ext cx="3016440" cy="2709720"/>
            <a:chOff x="5106960" y="1157400"/>
            <a:chExt cx="3016440" cy="270972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5106960" y="1157400"/>
              <a:ext cx="3016440" cy="23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928480" y="3498840"/>
              <a:ext cx="158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Verdana"/>
                </a:rPr>
                <a:t>4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106960" y="4002120"/>
            <a:ext cx="3071880" cy="2722680"/>
            <a:chOff x="5106960" y="4002120"/>
            <a:chExt cx="3071880" cy="2722680"/>
          </a:xfrm>
        </p:grpSpPr>
        <p:pic>
          <p:nvPicPr>
            <p:cNvPr id="229" name="" descr=""/>
            <p:cNvPicPr/>
            <p:nvPr/>
          </p:nvPicPr>
          <p:blipFill>
            <a:blip r:embed="rId3"/>
            <a:stretch/>
          </p:blipFill>
          <p:spPr>
            <a:xfrm>
              <a:off x="5106960" y="4002120"/>
              <a:ext cx="307188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5941080" y="6356520"/>
              <a:ext cx="158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Verdana"/>
                </a:rPr>
                <a:t>6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0960" y="4027320"/>
            <a:ext cx="3071880" cy="2710080"/>
            <a:chOff x="750960" y="4027320"/>
            <a:chExt cx="3071880" cy="2710080"/>
          </a:xfrm>
        </p:grpSpPr>
        <p:pic>
          <p:nvPicPr>
            <p:cNvPr id="232" name="" descr=""/>
            <p:cNvPicPr/>
            <p:nvPr/>
          </p:nvPicPr>
          <p:blipFill>
            <a:blip r:embed="rId4"/>
            <a:stretch/>
          </p:blipFill>
          <p:spPr>
            <a:xfrm>
              <a:off x="750960" y="4027320"/>
              <a:ext cx="3071880" cy="23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521360" y="6369120"/>
              <a:ext cx="158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Verdana"/>
                </a:rPr>
                <a:t>5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E91-7F35-44F5-9876-0CB294544C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48096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Rejection Sampling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1280" y="158544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ing from arbitrary distrib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068480" y="2398680"/>
            <a:ext cx="6708600" cy="2476440"/>
            <a:chOff x="1068480" y="2398680"/>
            <a:chExt cx="6708600" cy="2476440"/>
          </a:xfrm>
        </p:grpSpPr>
        <p:sp>
          <p:nvSpPr>
            <p:cNvPr id="237" name=""/>
            <p:cNvSpPr/>
            <p:nvPr/>
          </p:nvSpPr>
          <p:spPr>
            <a:xfrm>
              <a:off x="1068480" y="2398680"/>
              <a:ext cx="6708600" cy="15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Algorithm </a:t>
              </a:r>
              <a:r>
                <a:rPr b="1" lang="en-US" sz="2000" spc="-1" strike="noStrike">
                  <a:solidFill>
                    <a:srgbClr val="0033cc"/>
                  </a:solidFill>
                  <a:latin typeface="Verdana"/>
                </a:rPr>
                <a:t>sample_distribu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,b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)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repe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until  (               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20000"/>
                </a:lnSpc>
                <a:spcBef>
                  <a:spcPts val="499"/>
                </a:spcBef>
                <a:buClr>
                  <a:srgbClr val="0033cc"/>
                </a:buClr>
                <a:buFont typeface="Verdana"/>
                <a:buAutoNum type="arabicPeriod"/>
                <a:tabLst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Verdana"/>
                </a:rPr>
                <a:t>ret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2405160" y="3344760"/>
              <a:ext cx="5316480" cy="73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2627280" y="4232160"/>
              <a:ext cx="143496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2771640" y="4733640"/>
              <a:ext cx="169920" cy="1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7928-C114-481B-809F-5665FBFF5C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xampl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1280" y="112824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ing from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892160" y="1828800"/>
            <a:ext cx="4965840" cy="885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969920" y="2900520"/>
            <a:ext cx="4986360" cy="38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82C6-915A-4A69-A134-0418FD53FE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ample Odometry Motion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966960" y="1184400"/>
            <a:ext cx="7059600" cy="54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EA1-ECD0-4782-899A-610BB01F71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199800"/>
            <a:ext cx="84250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ampling from Our Motion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906560" y="1984320"/>
            <a:ext cx="5434200" cy="4324320"/>
            <a:chOff x="1906560" y="1984320"/>
            <a:chExt cx="5434200" cy="432432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1906560" y="1984320"/>
              <a:ext cx="5434200" cy="4324320"/>
            </a:xfrm>
            <a:prstGeom prst="rect">
              <a:avLst/>
            </a:prstGeom>
            <a:ln w="9360">
              <a:solidFill>
                <a:srgbClr val="0033cc"/>
              </a:solidFill>
              <a:miter/>
            </a:ln>
          </p:spPr>
        </p:pic>
        <p:sp>
          <p:nvSpPr>
            <p:cNvPr id="250" name=""/>
            <p:cNvSpPr/>
            <p:nvPr/>
          </p:nvSpPr>
          <p:spPr>
            <a:xfrm>
              <a:off x="3017880" y="4689360"/>
              <a:ext cx="9777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F82-947F-4455-B1FE-BE66D202CAD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xamples (Odometry-Based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03280" y="1173240"/>
            <a:ext cx="2298600" cy="2349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03280" y="4138560"/>
            <a:ext cx="2427120" cy="1830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253200" y="1131840"/>
            <a:ext cx="2141640" cy="23907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253200" y="3949560"/>
            <a:ext cx="2065320" cy="2019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3247920" y="1351080"/>
            <a:ext cx="2578320" cy="21715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3247920" y="4280040"/>
            <a:ext cx="2578320" cy="16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1612-1350-4310-9D37-0B2878C31CA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Velocity-Based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257480" y="1244520"/>
            <a:ext cx="64753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29A-C962-4388-B015-FCDD65A825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quation for the Velocity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06560" y="2454120"/>
            <a:ext cx="6379920" cy="6908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121760" y="1641600"/>
            <a:ext cx="2785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er of circ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181160" y="4067280"/>
            <a:ext cx="4583160" cy="7426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031760" y="3444840"/>
            <a:ext cx="898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17E-8EDC-47FD-9766-754337A23A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90040" y="-684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osterior Probability for Velocity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95280" y="1149480"/>
            <a:ext cx="7783560" cy="54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DA3-F215-4043-A839-E9EEC01DD3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10160"/>
            <a:ext cx="8534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ynamic Bayesian Network for Controls, States, and Sensation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3800" y="1576440"/>
            <a:ext cx="8186760" cy="390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20B-59CF-4F49-AA81-1B7B51CC6D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56988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ampling from Velocity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57120" y="1789200"/>
            <a:ext cx="8139240" cy="42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B72-451B-47D9-AEC9-E4753C048CF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xamples (velocity based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54160" y="1212840"/>
            <a:ext cx="2568240" cy="21114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54160" y="4010040"/>
            <a:ext cx="2568240" cy="17971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179880" y="1212840"/>
            <a:ext cx="2568600" cy="2000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6153120" y="4010040"/>
            <a:ext cx="2568600" cy="1917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6153120" y="1212840"/>
            <a:ext cx="2568600" cy="2135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3179880" y="4010040"/>
            <a:ext cx="2568600" cy="177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BA6-FD88-41BF-8DA5-5CAD083997F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Map-Consistent Motion Model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52440" y="1258920"/>
            <a:ext cx="3941640" cy="4200480"/>
            <a:chOff x="352440" y="1258920"/>
            <a:chExt cx="3941640" cy="4200480"/>
          </a:xfrm>
        </p:grpSpPr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1531800" y="4971960"/>
                  <a:ext cx="161460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|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352440" y="1258920"/>
              <a:ext cx="3941640" cy="359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"/>
          <p:cNvGrpSpPr/>
          <p:nvPr/>
        </p:nvGrpSpPr>
        <p:grpSpPr>
          <a:xfrm>
            <a:off x="3970080" y="1284120"/>
            <a:ext cx="4737240" cy="4184640"/>
            <a:chOff x="3970080" y="1284120"/>
            <a:chExt cx="4737240" cy="418464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4568760" y="1284120"/>
              <a:ext cx="4138560" cy="373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2" name=""/>
            <p:cNvGrpSpPr/>
            <p:nvPr/>
          </p:nvGrpSpPr>
          <p:grpSpPr>
            <a:xfrm>
              <a:off x="3970080" y="4968720"/>
              <a:ext cx="3438720" cy="500040"/>
              <a:chOff x="3970080" y="4968720"/>
              <a:chExt cx="3438720" cy="500040"/>
            </a:xfrm>
          </p:grpSpPr>
          <mc:AlternateContent>
            <mc:Choice xmlns:a14="http://schemas.microsoft.com/office/drawing/2010/main" Requires="a14">
              <p:sp>
                <p:nvSpPr>
                  <p:cNvPr id="283" name=""/>
                  <p:cNvSpPr txBox="1"/>
                  <p:nvPr/>
                </p:nvSpPr>
                <p:spPr>
                  <a:xfrm>
                    <a:off x="5451480" y="4968720"/>
                    <a:ext cx="1957320" cy="474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4" name=""/>
              <p:cNvSpPr/>
              <p:nvPr/>
            </p:nvSpPr>
            <p:spPr>
              <a:xfrm>
                <a:off x="3970080" y="4991040"/>
                <a:ext cx="46260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622080" y="5834160"/>
            <a:ext cx="8275680" cy="485640"/>
            <a:chOff x="622080" y="5834160"/>
            <a:chExt cx="8275680" cy="485640"/>
          </a:xfrm>
        </p:grpSpPr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3529080" y="5834160"/>
                  <a:ext cx="536868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|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',</m:t>
                      </m:r>
                      <m:r>
                        <m:t xml:space="preserve">m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η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|</m:t>
                      </m:r>
                      <m:r>
                        <m:t xml:space="preserve">m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|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7" name=""/>
            <p:cNvSpPr/>
            <p:nvPr/>
          </p:nvSpPr>
          <p:spPr>
            <a:xfrm>
              <a:off x="622080" y="5835600"/>
              <a:ext cx="2764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pproxim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BF2-614E-4587-9D65-4A197FDDC7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umma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discussed motion models for odometry-based and velocity-based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discussed ways to calculate the posterior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| x’, u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also described how to sample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| x’, u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ically the calculations are done in fixed time interval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practice, the parameters of the models have to be learn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also discussed an extended motion model that takes the map into accou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C62-E55D-4DF8-89A8-888F83B0BA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babilistic Motion Model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0920" y="1306080"/>
            <a:ext cx="80168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implement the Bayes Filter, we need the transition mod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’, u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e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’, u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pecifies a posterior probability, that a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arries the robot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this section, we will specify how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’, u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an be modeled based on the motion equ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822-5DF7-4C24-83FE-E72A7CC97B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oordinate System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306080"/>
            <a:ext cx="801036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general, the configuration of a robot can be described by six paramet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e-dimensional cartesian coordinates plus three Euler angles pitch, roll, and til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out this section, we consider robots operating on a planar surfa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827600" y="3960720"/>
            <a:ext cx="4078440" cy="2422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3997440"/>
            <a:ext cx="43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ate space of such systems is three-dimensional (x,y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E056-EB45-4E80-B573-EC85924B19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Typical Motion Model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practice, one often finds two types of motion mode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Odometry-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Velocity-bas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dead recko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dometry-based models are used when systems are equipped with wheel encod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locity-based models have to be applied when no wheel encoders are giv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calculate the new pose based on the velocities and the time elaps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33B-FD93-4ADD-84A8-28328D2543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3132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xample Wheel Encoder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7360" y="1087560"/>
            <a:ext cx="3467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modules require +5V and GND to power them, and provide a 0 to 5V output. They provide +5V output when they "see" white, and a 0V output when they "see" blac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48040" y="1338120"/>
            <a:ext cx="5133960" cy="1595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9240" y="3943440"/>
            <a:ext cx="4655880" cy="1911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068800" y="3802320"/>
            <a:ext cx="3732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disks are manufactured out of high quality laminated color plastic to offer a very crisp black to white transition. This enables a wheel encoder sensor to easily see the transi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0" y="6383160"/>
            <a:ext cx="3859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rce: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http://www.active-robots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D39-5082-4EA4-918F-D065E03BAF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3132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ead Reckoning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4600" y="1217160"/>
            <a:ext cx="841068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rived from “deduced reckoning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hematical procedure for determining the present location of a vehic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hieved by calculating the current pose of the vehicle based on its velocities and the time elaps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F0E-C7C0-41F2-9CF7-1DE5F18CB0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Reasons for Motion Error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046880" y="3999240"/>
            <a:ext cx="2125440" cy="1828440"/>
            <a:chOff x="1046880" y="3999240"/>
            <a:chExt cx="2125440" cy="1828440"/>
          </a:xfrm>
        </p:grpSpPr>
        <p:grpSp>
          <p:nvGrpSpPr>
            <p:cNvPr id="109" name=""/>
            <p:cNvGrpSpPr/>
            <p:nvPr/>
          </p:nvGrpSpPr>
          <p:grpSpPr>
            <a:xfrm>
              <a:off x="1046880" y="3999240"/>
              <a:ext cx="2125440" cy="1261440"/>
              <a:chOff x="1046880" y="3999240"/>
              <a:chExt cx="2125440" cy="1261440"/>
            </a:xfrm>
          </p:grpSpPr>
          <p:sp>
            <p:nvSpPr>
              <p:cNvPr id="110" name=""/>
              <p:cNvSpPr/>
              <p:nvPr/>
            </p:nvSpPr>
            <p:spPr>
              <a:xfrm>
                <a:off x="1298160" y="5086080"/>
                <a:ext cx="206640" cy="114480"/>
              </a:xfrm>
              <a:custGeom>
                <a:avLst/>
                <a:gdLst/>
                <a:ahLst/>
                <a:rect l="l" t="t" r="r" b="b"/>
                <a:pathLst>
                  <a:path w="238" h="162">
                    <a:moveTo>
                      <a:pt x="4" y="120"/>
                    </a:moveTo>
                    <a:cubicBezTo>
                      <a:pt x="16" y="61"/>
                      <a:pt x="36" y="79"/>
                      <a:pt x="100" y="84"/>
                    </a:cubicBezTo>
                    <a:cubicBezTo>
                      <a:pt x="141" y="70"/>
                      <a:pt x="116" y="17"/>
                      <a:pt x="166" y="0"/>
                    </a:cubicBezTo>
                    <a:cubicBezTo>
                      <a:pt x="172" y="4"/>
                      <a:pt x="179" y="6"/>
                      <a:pt x="184" y="12"/>
                    </a:cubicBezTo>
                    <a:cubicBezTo>
                      <a:pt x="188" y="17"/>
                      <a:pt x="186" y="26"/>
                      <a:pt x="190" y="30"/>
                    </a:cubicBezTo>
                    <a:cubicBezTo>
                      <a:pt x="202" y="42"/>
                      <a:pt x="222" y="39"/>
                      <a:pt x="238" y="42"/>
                    </a:cubicBezTo>
                    <a:cubicBezTo>
                      <a:pt x="222" y="75"/>
                      <a:pt x="214" y="71"/>
                      <a:pt x="178" y="78"/>
                    </a:cubicBezTo>
                    <a:cubicBezTo>
                      <a:pt x="151" y="105"/>
                      <a:pt x="156" y="136"/>
                      <a:pt x="130" y="162"/>
                    </a:cubicBezTo>
                    <a:cubicBezTo>
                      <a:pt x="112" y="158"/>
                      <a:pt x="93" y="157"/>
                      <a:pt x="76" y="150"/>
                    </a:cubicBezTo>
                    <a:cubicBezTo>
                      <a:pt x="0" y="116"/>
                      <a:pt x="47" y="106"/>
                      <a:pt x="4" y="1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1046880" y="3999240"/>
                <a:ext cx="2125440" cy="1261440"/>
                <a:chOff x="1046880" y="3999240"/>
                <a:chExt cx="2125440" cy="1261440"/>
              </a:xfrm>
            </p:grpSpPr>
            <p:sp>
              <p:nvSpPr>
                <p:cNvPr id="112" name=""/>
                <p:cNvSpPr/>
                <p:nvPr/>
              </p:nvSpPr>
              <p:spPr>
                <a:xfrm rot="238200">
                  <a:off x="1047240" y="4581000"/>
                  <a:ext cx="2124000" cy="95400"/>
                </a:xfrm>
                <a:prstGeom prst="rect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238200">
                  <a:off x="1249560" y="4008240"/>
                  <a:ext cx="304560" cy="114300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238200">
                  <a:off x="2693520" y="4108320"/>
                  <a:ext cx="304920" cy="114300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" name=""/>
            <p:cNvSpPr/>
            <p:nvPr/>
          </p:nvSpPr>
          <p:spPr>
            <a:xfrm>
              <a:off x="1510920" y="5349960"/>
              <a:ext cx="11682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bu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81000" y="1571760"/>
            <a:ext cx="2124000" cy="1760400"/>
            <a:chOff x="981000" y="1571760"/>
            <a:chExt cx="2124000" cy="1760400"/>
          </a:xfrm>
        </p:grpSpPr>
        <p:grpSp>
          <p:nvGrpSpPr>
            <p:cNvPr id="117" name=""/>
            <p:cNvGrpSpPr/>
            <p:nvPr/>
          </p:nvGrpSpPr>
          <p:grpSpPr>
            <a:xfrm>
              <a:off x="981000" y="1571760"/>
              <a:ext cx="2124000" cy="1143000"/>
              <a:chOff x="981000" y="1571760"/>
              <a:chExt cx="2124000" cy="1143000"/>
            </a:xfrm>
          </p:grpSpPr>
          <p:sp>
            <p:nvSpPr>
              <p:cNvPr id="118" name=""/>
              <p:cNvSpPr/>
              <p:nvPr/>
            </p:nvSpPr>
            <p:spPr>
              <a:xfrm>
                <a:off x="981000" y="2095560"/>
                <a:ext cx="2124000" cy="954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81160" y="1571760"/>
                <a:ext cx="304560" cy="1143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28720" y="1571760"/>
                <a:ext cx="304920" cy="1143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1203120" y="2854440"/>
              <a:ext cx="18144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deal ca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540040" y="1428840"/>
            <a:ext cx="2709000" cy="2207520"/>
            <a:chOff x="5540040" y="1428840"/>
            <a:chExt cx="2709000" cy="2207520"/>
          </a:xfrm>
        </p:grpSpPr>
        <p:sp>
          <p:nvSpPr>
            <p:cNvPr id="123" name=""/>
            <p:cNvSpPr/>
            <p:nvPr/>
          </p:nvSpPr>
          <p:spPr>
            <a:xfrm rot="228600">
              <a:off x="5667120" y="1952280"/>
              <a:ext cx="2124000" cy="946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67280" y="1428840"/>
              <a:ext cx="304920" cy="1142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15200" y="1495440"/>
              <a:ext cx="304920" cy="1075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40040" y="2689200"/>
              <a:ext cx="2709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different wheel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diame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619600" y="4305240"/>
            <a:ext cx="2181240" cy="1760400"/>
            <a:chOff x="5619600" y="4305240"/>
            <a:chExt cx="2181240" cy="1760400"/>
          </a:xfrm>
        </p:grpSpPr>
        <p:grpSp>
          <p:nvGrpSpPr>
            <p:cNvPr id="128" name=""/>
            <p:cNvGrpSpPr/>
            <p:nvPr/>
          </p:nvGrpSpPr>
          <p:grpSpPr>
            <a:xfrm>
              <a:off x="5638680" y="5410080"/>
              <a:ext cx="2162160" cy="162000"/>
              <a:chOff x="5638680" y="5410080"/>
              <a:chExt cx="2162160" cy="162000"/>
            </a:xfrm>
          </p:grpSpPr>
          <p:sp>
            <p:nvSpPr>
              <p:cNvPr id="129" name=""/>
              <p:cNvSpPr/>
              <p:nvPr/>
            </p:nvSpPr>
            <p:spPr>
              <a:xfrm>
                <a:off x="5648040" y="5410080"/>
                <a:ext cx="2143080" cy="1522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638680" y="5562360"/>
                <a:ext cx="2162160" cy="9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619600" y="4305240"/>
              <a:ext cx="2124000" cy="1760400"/>
              <a:chOff x="5619600" y="4305240"/>
              <a:chExt cx="2124000" cy="176040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5619600" y="4305240"/>
                <a:ext cx="2124000" cy="1143000"/>
                <a:chOff x="5619600" y="4305240"/>
                <a:chExt cx="2124000" cy="11430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619600" y="4829040"/>
                  <a:ext cx="2124000" cy="95400"/>
                </a:xfrm>
                <a:prstGeom prst="rect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819760" y="4305240"/>
                  <a:ext cx="304560" cy="114300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267320" y="4305240"/>
                  <a:ext cx="304920" cy="11430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6129000" y="5587920"/>
                <a:ext cx="124308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Verdana"/>
                  </a:rPr>
                  <a:t>carpe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5829480" y="5495760"/>
              <a:ext cx="314280" cy="57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67680" y="5495760"/>
              <a:ext cx="314280" cy="572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949680" y="6026040"/>
            <a:ext cx="3202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many mor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CABD-4CDE-48B1-A0F3-937D374DD2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3T15:49:16Z</dcterms:created>
  <dc:creator>SCS</dc:creator>
  <dc:description/>
  <dc:language>en-US</dc:language>
  <cp:lastModifiedBy>-</cp:lastModifiedBy>
  <dcterms:modified xsi:type="dcterms:W3CDTF">2010-08-23T12:23:21Z</dcterms:modified>
  <cp:revision>1435</cp:revision>
  <dc:subject/>
  <dc:title>Probabilistic Robotics</dc:title>
</cp:coreProperties>
</file>